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1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1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1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FBC1-2756-4637-88C0-0A0F747DBF48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Dian numeron paikkamerkki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8456-6579-429C-A987-82471A4DD9A3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Dian numeron paikkamerkki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B748-26BC-42C2-844F-D821AA32DAA1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Dian numeron paikkamerkki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1422-DFC0-42F0-B34B-718829A314AD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Dian numeron paikkamerkki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D83C-0307-496C-8625-246A80FE2FFD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Dian numeron paikkamerkki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F8B8-F4DC-4228-908C-C1090C5B0208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Dian numeron paikkamerkki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40C9-5CB8-474D-A675-E4BD4F613FC9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Dian numeron paikkamerkki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321A-0E7F-4F51-994B-1D3962D08FB2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Dian numeron paikkamerkki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DC30-9FB7-44D9-B2E6-AFD905D643FE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Dian numeron paikkamerkki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75A7-AB95-4865-B49B-80109D3598DE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Dian numeron paikkamerkki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AFA3-B909-4020-BAF3-7C2455F68BFA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952880" y="228240"/>
            <a:ext cx="381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952880" y="228240"/>
            <a:ext cx="381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952880" y="228240"/>
            <a:ext cx="381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952880" y="228240"/>
            <a:ext cx="381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952880" y="228240"/>
            <a:ext cx="381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952880" y="228240"/>
            <a:ext cx="381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952880" y="228240"/>
            <a:ext cx="381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952880" y="228240"/>
            <a:ext cx="381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2880" y="228240"/>
            <a:ext cx="381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952880" y="228240"/>
            <a:ext cx="381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952880" y="228240"/>
            <a:ext cx="381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952880" y="228240"/>
            <a:ext cx="381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"/>
          <p:cNvPicPr/>
          <p:nvPr/>
        </p:nvPicPr>
        <p:blipFill>
          <a:blip r:embed="rId2"/>
          <a:stretch/>
        </p:blipFill>
        <p:spPr>
          <a:xfrm>
            <a:off x="-324000" y="-252360"/>
            <a:ext cx="9792000" cy="7361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38052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84B2-ECA7-4B2A-9ECC-C8703FE745AD}" type="datetime">
              <a:rPr b="0" lang="fi-FI" sz="1200" spc="-1" strike="noStrike">
                <a:solidFill>
                  <a:srgbClr val="5f5f5f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10" descr=""/>
          <p:cNvPicPr/>
          <p:nvPr/>
        </p:nvPicPr>
        <p:blipFill>
          <a:blip r:embed="rId2"/>
          <a:stretch/>
        </p:blipFill>
        <p:spPr>
          <a:xfrm>
            <a:off x="-324000" y="-252360"/>
            <a:ext cx="9792000" cy="736128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0"/>
          </p:nvPr>
        </p:nvSpPr>
        <p:spPr>
          <a:xfrm>
            <a:off x="38052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D2B0-022B-41EC-8C44-BF62489C00E4}" type="datetime">
              <a:rPr b="0" lang="fi-FI" sz="1200" spc="-1" strike="noStrike">
                <a:solidFill>
                  <a:srgbClr val="5f5f5f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10" descr=""/>
          <p:cNvPicPr/>
          <p:nvPr/>
        </p:nvPicPr>
        <p:blipFill>
          <a:blip r:embed="rId2"/>
          <a:stretch/>
        </p:blipFill>
        <p:spPr>
          <a:xfrm>
            <a:off x="-324000" y="-252360"/>
            <a:ext cx="9792000" cy="736128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11"/>
          </p:nvPr>
        </p:nvSpPr>
        <p:spPr>
          <a:xfrm>
            <a:off x="38052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28E6-177C-46D5-9C78-E509F93C9FB8}" type="datetime">
              <a:rPr b="0" lang="fi-FI" sz="1200" spc="-1" strike="noStrike">
                <a:solidFill>
                  <a:srgbClr val="5f5f5f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10" descr=""/>
          <p:cNvPicPr/>
          <p:nvPr/>
        </p:nvPicPr>
        <p:blipFill>
          <a:blip r:embed="rId2"/>
          <a:stretch/>
        </p:blipFill>
        <p:spPr>
          <a:xfrm>
            <a:off x="-324000" y="-252360"/>
            <a:ext cx="9792000" cy="736128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12"/>
          </p:nvPr>
        </p:nvSpPr>
        <p:spPr>
          <a:xfrm>
            <a:off x="38052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4F8B-E7A1-4BE2-B36A-EB15AD584E63}" type="datetime">
              <a:rPr b="0" lang="fi-FI" sz="1200" spc="-1" strike="noStrike">
                <a:solidFill>
                  <a:srgbClr val="5f5f5f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8" descr=""/>
          <p:cNvPicPr/>
          <p:nvPr/>
        </p:nvPicPr>
        <p:blipFill>
          <a:blip r:embed="rId2"/>
          <a:stretch/>
        </p:blipFill>
        <p:spPr>
          <a:xfrm>
            <a:off x="-324000" y="-609480"/>
            <a:ext cx="9792000" cy="73263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0"/>
          <p:cNvSpPr/>
          <p:nvPr/>
        </p:nvSpPr>
        <p:spPr>
          <a:xfrm>
            <a:off x="68580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0" descr=""/>
          <p:cNvPicPr/>
          <p:nvPr/>
        </p:nvPicPr>
        <p:blipFill>
          <a:blip r:embed="rId2"/>
          <a:stretch/>
        </p:blipFill>
        <p:spPr>
          <a:xfrm>
            <a:off x="-324000" y="-252360"/>
            <a:ext cx="9792000" cy="7361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3"/>
          </p:nvPr>
        </p:nvSpPr>
        <p:spPr>
          <a:xfrm>
            <a:off x="38052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9530-2D66-4A28-AB61-662403390B57}" type="datetime">
              <a:rPr b="0" lang="fi-FI" sz="1200" spc="-1" strike="noStrike">
                <a:solidFill>
                  <a:srgbClr val="5f5f5f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0" descr=""/>
          <p:cNvPicPr/>
          <p:nvPr/>
        </p:nvPicPr>
        <p:blipFill>
          <a:blip r:embed="rId2"/>
          <a:stretch/>
        </p:blipFill>
        <p:spPr>
          <a:xfrm>
            <a:off x="-324000" y="-252360"/>
            <a:ext cx="9792000" cy="73612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4"/>
          </p:nvPr>
        </p:nvSpPr>
        <p:spPr>
          <a:xfrm>
            <a:off x="38052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1719-0973-4357-9A32-AC680BF2186B}" type="datetime">
              <a:rPr b="0" lang="fi-FI" sz="1200" spc="-1" strike="noStrike">
                <a:solidFill>
                  <a:srgbClr val="5f5f5f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0" descr=""/>
          <p:cNvPicPr/>
          <p:nvPr/>
        </p:nvPicPr>
        <p:blipFill>
          <a:blip r:embed="rId2"/>
          <a:stretch/>
        </p:blipFill>
        <p:spPr>
          <a:xfrm>
            <a:off x="-324000" y="-252360"/>
            <a:ext cx="9792000" cy="73612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5"/>
          </p:nvPr>
        </p:nvSpPr>
        <p:spPr>
          <a:xfrm>
            <a:off x="38052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1401-D33F-4450-876E-7C29C2F52F56}" type="datetime">
              <a:rPr b="0" lang="fi-FI" sz="1200" spc="-1" strike="noStrike">
                <a:solidFill>
                  <a:srgbClr val="5f5f5f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-324000" y="-252360"/>
            <a:ext cx="9792000" cy="73612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6"/>
          </p:nvPr>
        </p:nvSpPr>
        <p:spPr>
          <a:xfrm>
            <a:off x="38052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B066-716F-47D9-95F7-BAD4902EA75B}" type="datetime">
              <a:rPr b="0" lang="fi-FI" sz="1200" spc="-1" strike="noStrike">
                <a:solidFill>
                  <a:srgbClr val="5f5f5f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0" descr=""/>
          <p:cNvPicPr/>
          <p:nvPr/>
        </p:nvPicPr>
        <p:blipFill>
          <a:blip r:embed="rId2"/>
          <a:stretch/>
        </p:blipFill>
        <p:spPr>
          <a:xfrm>
            <a:off x="-324000" y="-252360"/>
            <a:ext cx="9792000" cy="73612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7"/>
          </p:nvPr>
        </p:nvSpPr>
        <p:spPr>
          <a:xfrm>
            <a:off x="38052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0FFA-E33B-4FA3-B2EC-BB227F336BFB}" type="datetime">
              <a:rPr b="0" lang="fi-FI" sz="1200" spc="-1" strike="noStrike">
                <a:solidFill>
                  <a:srgbClr val="5f5f5f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10" descr=""/>
          <p:cNvPicPr/>
          <p:nvPr/>
        </p:nvPicPr>
        <p:blipFill>
          <a:blip r:embed="rId2"/>
          <a:stretch/>
        </p:blipFill>
        <p:spPr>
          <a:xfrm>
            <a:off x="-324000" y="-252360"/>
            <a:ext cx="9792000" cy="736128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8"/>
          </p:nvPr>
        </p:nvSpPr>
        <p:spPr>
          <a:xfrm>
            <a:off x="38052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8AB3-246E-484A-B478-BC07E545B431}" type="datetime">
              <a:rPr b="0" lang="fi-FI" sz="1200" spc="-1" strike="noStrike">
                <a:solidFill>
                  <a:srgbClr val="5f5f5f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10" descr=""/>
          <p:cNvPicPr/>
          <p:nvPr/>
        </p:nvPicPr>
        <p:blipFill>
          <a:blip r:embed="rId2"/>
          <a:stretch/>
        </p:blipFill>
        <p:spPr>
          <a:xfrm>
            <a:off x="-324000" y="-252360"/>
            <a:ext cx="9792000" cy="736128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9"/>
          </p:nvPr>
        </p:nvSpPr>
        <p:spPr>
          <a:xfrm>
            <a:off x="38052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54EE-6E85-4705-9F8B-60C22BF5650D}" type="datetime">
              <a:rPr b="0" lang="fi-FI" sz="1200" spc="-1" strike="noStrike">
                <a:solidFill>
                  <a:srgbClr val="5f5f5f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norssi.fi/tutkimus-kokeilu-ja-kehittamistoiminta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G:%5CTutkoke%5CTurun_normaalikoulun_tutkoke-strategia_31.12.2010.pdf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2286000"/>
            <a:ext cx="9144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808080"/>
                </a:solidFill>
                <a:latin typeface="Times New Roman"/>
              </a:rPr>
              <a:t>TUTKOKE Turun normaalikoulussa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808080"/>
                </a:solidFill>
                <a:latin typeface="Times New Roman"/>
              </a:rPr>
              <a:t>0802211</a:t>
            </a:r>
            <a:endParaRPr b="0" lang="en-US" sz="1600" spc="-1" strike="noStrike">
              <a:solidFill>
                <a:srgbClr val="5f5f5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808080"/>
                </a:solidFill>
                <a:latin typeface="Times New Roman"/>
              </a:rPr>
              <a:t>PM/MH</a:t>
            </a:r>
            <a:endParaRPr b="0" lang="en-US" sz="16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ffffff"/>
                </a:solidFill>
                <a:latin typeface="Times New Roman"/>
              </a:rPr>
              <a:t>Tutkoke-rakentee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213840" y="128592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5f5f5f"/>
                </a:solidFill>
                <a:latin typeface="Times New Roman"/>
              </a:rPr>
              <a:t>Turun normaalikoulun ja yliopiston yhteistyöryhmä: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5f5f5f"/>
                </a:solidFill>
                <a:latin typeface="Times New Roman"/>
              </a:rPr>
              <a:t>tutkoke-toiminnasta vastaava rehtori ja koordinaattorit sekä Turun opettajankoulutuslaitoksen ja ainelaitosten edustajat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5f5f5f"/>
                </a:solidFill>
                <a:latin typeface="Times New Roman"/>
              </a:rPr>
              <a:t>Veli-Matti Hakanen, Pirjo Mikkola, Mervi Hiilovaara-Teijo (TNK),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5f5f5f"/>
                </a:solidFill>
                <a:latin typeface="Times New Roman"/>
              </a:rPr>
              <a:t>Eila Matikainen (OKL)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5f5f5f"/>
                </a:solidFill>
                <a:latin typeface="Times New Roman"/>
              </a:rPr>
              <a:t>Turun normaalikoulun tutkoke-ryhmä: 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5f5f5f"/>
                </a:solidFill>
                <a:latin typeface="Times New Roman"/>
              </a:rPr>
              <a:t>Tutkoke-työhön aktiivisesti orientoituneet lehtorit, toiminnasta vastaava rehtori ja koordinaattorit. Ryhmä kutsuu jäseniä sekä yksilöllisellä että avoimella kutsulla. 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Tutkoke-koordinaattorit: Pirjo Mikkola, Mervi Hiilovaara-Teijo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Yhteistyö Rauman normaalikoulun kanssa (Talvikki Lehtinen)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16" name="Päivämäärän paikkamerkki 3"/>
          <p:cNvSpPr/>
          <p:nvPr/>
        </p:nvSpPr>
        <p:spPr>
          <a:xfrm>
            <a:off x="3808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FE0B-24C0-488B-B98A-D1747B90AA8D}" type="datetime">
              <a:rPr b="0" lang="fi-FI" sz="1200" spc="-1" strike="noStrike">
                <a:solidFill>
                  <a:srgbClr val="5f5f5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ffffff"/>
                </a:solidFill>
                <a:latin typeface="Times New Roman"/>
              </a:rPr>
              <a:t>Tutkimus-, kokeilu- ja kehittämistoiminnan strategia 2011-2014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fi-FI" sz="2400" spc="-1" strike="noStrike">
                <a:solidFill>
                  <a:srgbClr val="5f5f5f"/>
                </a:solidFill>
                <a:latin typeface="Times New Roman"/>
              </a:rPr>
              <a:t>Turun normaalikoululla on erityisiä vahvuusalueita tutkimus-, kokeilu ja kehittämistyössään: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5f5f5f"/>
                </a:solidFill>
                <a:latin typeface="Times New Roman"/>
              </a:rPr>
              <a:t>monikulttuurisuus ja interkulttuurinen pedagogiikka, 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5f5f5f"/>
                </a:solidFill>
                <a:latin typeface="Times New Roman"/>
              </a:rPr>
              <a:t>vieraalla kielellä opettaminen ja oppiminen (CLIL),  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5f5f5f"/>
                </a:solidFill>
                <a:latin typeface="Times New Roman"/>
              </a:rPr>
              <a:t>yrittäjyyskasvatus ja yrittäjämäinen oppiminen, 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5f5f5f"/>
                </a:solidFill>
                <a:latin typeface="Times New Roman"/>
              </a:rPr>
              <a:t>tieto- ja viestintätekniikan käyttö opetuksessa, opiskelussa ja oppimisessa, 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5f5f5f"/>
                </a:solidFill>
                <a:latin typeface="Times New Roman"/>
              </a:rPr>
              <a:t>joustava perusopetus (JOPO) sekä 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5f5f5f"/>
                </a:solidFill>
                <a:latin typeface="Times New Roman"/>
              </a:rPr>
              <a:t>erilaisen oppijan ohjaaminen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5f5f5f"/>
                </a:solidFill>
                <a:latin typeface="Times New Roman"/>
              </a:rPr>
              <a:t>ym. 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19" name="Päivämäärän paikkamerkki 3"/>
          <p:cNvSpPr/>
          <p:nvPr/>
        </p:nvSpPr>
        <p:spPr>
          <a:xfrm>
            <a:off x="3808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0C80-860C-42F5-8D9A-270696A02671}" type="datetime">
              <a:rPr b="0" lang="fi-FI" sz="1200" spc="-1" strike="noStrike">
                <a:solidFill>
                  <a:srgbClr val="5f5f5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ffffff"/>
                </a:solidFill>
                <a:latin typeface="Times New Roman"/>
              </a:rPr>
              <a:t>Mikä TUTKOKE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Tutkimus-, kokeilu ja kehittämistoiminta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Tavoite määritelty harjoittelukoulujen strategiassa </a:t>
            </a:r>
            <a:r>
              <a:rPr b="0" lang="fi-FI" sz="2400" spc="-1" strike="noStrike">
                <a:solidFill>
                  <a:srgbClr val="5f5f5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v. 2020  ”Harjoittelukoulut …osallistuvat tutkimus- ja kehittämistyöhön.”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enorssi.fi/tutkimus-kokeilu-ja-kehittamistoiminta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92" name="Päivämäärän paikkamerkki 3"/>
          <p:cNvSpPr/>
          <p:nvPr/>
        </p:nvSpPr>
        <p:spPr>
          <a:xfrm>
            <a:off x="3808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64C4-B23E-46E2-9761-D1A056540F8B}" type="datetime">
              <a:rPr b="0" lang="fi-FI" sz="1200" spc="-1" strike="noStrike">
                <a:solidFill>
                  <a:srgbClr val="5f5f5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ffffff"/>
                </a:solidFill>
                <a:latin typeface="Times New Roman"/>
              </a:rPr>
              <a:t>KOKEILU, KEHITTÄMINEN JA TUTKIMUSTYÖ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Harjoittelukouluverkosto kehittää tutkimusorientoitunutta ohjattua harjoittelua.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Harjoittelukoulut mahdollistavat henkilöstön tutkimus- ja kokeilutoimintaa ja luovat edellytykset yhteiskunnalliseen vaikuttavuuteen.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Harjoittelukoulut toimivat tutkimusympäristöinä ja luovat edellytyksiä tutkimukselle ja sen edellyttämälle yhteistyölle.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95" name="Päivämäärän paikkamerkki 3"/>
          <p:cNvSpPr/>
          <p:nvPr/>
        </p:nvSpPr>
        <p:spPr>
          <a:xfrm>
            <a:off x="3808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798D-0B07-40F4-BBA0-C42537825134}" type="datetime">
              <a:rPr b="0" lang="fi-FI" sz="1200" spc="-1" strike="noStrike">
                <a:solidFill>
                  <a:srgbClr val="5f5f5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427280" y="228240"/>
            <a:ext cx="4335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ffffff"/>
                </a:solidFill>
                <a:latin typeface="Times New Roman"/>
              </a:rPr>
              <a:t>TUTKIMUS-, KOKEILU- JA KEHITTÄMISSTRATEGI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Harjoittelukoulut ovat osa yliopistoa. 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Tämä mahdollistaa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tieteelliseen tutkimukseen perustuvan opettajankoulutuksen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harjoittelukoulujen tiedeperustaisen kehittymisen / kehittämisen alueellisina tutkimus-, kokeilu- ja kehittämiskouluina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98" name="Päivämäärän paikkamerkki 3"/>
          <p:cNvSpPr/>
          <p:nvPr/>
        </p:nvSpPr>
        <p:spPr>
          <a:xfrm>
            <a:off x="3808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AB8C-CFAF-490E-B2D9-3EAEECEFDE01}" type="datetime">
              <a:rPr b="0" lang="fi-FI" sz="1200" spc="-1" strike="noStrike">
                <a:solidFill>
                  <a:srgbClr val="5f5f5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ffffff"/>
                </a:solidFill>
                <a:latin typeface="Times New Roman"/>
              </a:rPr>
              <a:t>Harjoittelukoulujen rooli tutkimus-, kehittämis- ja kokeilukouluin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Harjoittelukoulut toimivat ohjatun harjoittelun kouluina sekä tutkimus-, kokeilu- ja kehittämiskouluina.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Harjoittelukoulujen opettajat ovat työnkuvansa perusteella kehittäjäopettajia.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Normaalikoulut eivät ole itsenäisiä tutkimusinstituutteja; suhde tutkimus-, kokeilu- ja kehittämistoimintaan vaihtelee sen mukaan, minkälaisia mahdollisuuksia eri yliopistoyhteyksissä on tarjolla.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01" name="Päivämäärän paikkamerkki 3"/>
          <p:cNvSpPr/>
          <p:nvPr/>
        </p:nvSpPr>
        <p:spPr>
          <a:xfrm>
            <a:off x="3808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08B4-39A5-422C-9573-4ECDD30EC429}" type="datetime">
              <a:rPr b="0" lang="fi-FI" sz="1200" spc="-1" strike="noStrike">
                <a:solidFill>
                  <a:srgbClr val="5f5f5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Harjoittelukoulut lähtevät mukaan ja liittyvät </a:t>
            </a:r>
            <a:r>
              <a:rPr b="1" lang="fi-FI" sz="2400" spc="-1" strike="noStrike">
                <a:solidFill>
                  <a:srgbClr val="5f5f5f"/>
                </a:solidFill>
                <a:latin typeface="Times New Roman"/>
              </a:rPr>
              <a:t>yliopiston tutkimushankkeisiin. 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Normaalikoulut ovat aloitteellisia tutkimus- kokeilu- ja kehittämisideoidensa esille nostamisessa ja </a:t>
            </a:r>
            <a:r>
              <a:rPr b="1" lang="fi-FI" sz="2400" spc="-1" strike="noStrike">
                <a:solidFill>
                  <a:srgbClr val="5f5f5f"/>
                </a:solidFill>
                <a:latin typeface="Times New Roman"/>
              </a:rPr>
              <a:t>etsivät aktiivisesti </a:t>
            </a: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niihin </a:t>
            </a:r>
            <a:r>
              <a:rPr b="1" lang="fi-FI" sz="2400" spc="-1" strike="noStrike">
                <a:solidFill>
                  <a:srgbClr val="5f5f5f"/>
                </a:solidFill>
                <a:latin typeface="Times New Roman"/>
              </a:rPr>
              <a:t>parhaita kansallisia ja/tai kansainvälisiä </a:t>
            </a: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kumppaneita yhteistyössä oman yliopistonsa kanssa. 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04" name="Päiväyksen paikkamerkki 3"/>
          <p:cNvSpPr/>
          <p:nvPr/>
        </p:nvSpPr>
        <p:spPr>
          <a:xfrm>
            <a:off x="3808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BE10-1D9A-45E0-832F-7067B23813C9}" type="datetime">
              <a:rPr b="0" lang="fi-FI" sz="1200" spc="-1" strike="noStrike">
                <a:solidFill>
                  <a:srgbClr val="5f5f5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ffffff"/>
                </a:solidFill>
                <a:latin typeface="Times New Roman"/>
              </a:rPr>
              <a:t>Harjoittelukoulu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soveltavat hankkeissaan jo olemassa olevaa tutkimustietoa,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mahdollistavat henkilökuntansa tutkimus- ja kokeilutoimintaa,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kehittävät tutkimusorientoitunutta ohjattua harjoittelua jo olemassa olevien rakenteiden kautta,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toimivat yhteistyökumppaneina muiden tutkimustahojen kanssa,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toimivat tutkimus- kokeilu- ja kehittämisympäristöinä, joilla on em. toimintaa sekä alueellisesti että valtakunnallisesti/kansainvälisesti sekä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edistävät muuta tieteellistä tutkimustoimintaa.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07" name="Päivämäärän paikkamerkki 3"/>
          <p:cNvSpPr/>
          <p:nvPr/>
        </p:nvSpPr>
        <p:spPr>
          <a:xfrm>
            <a:off x="3808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24E7-672F-4247-ADC9-70AC0169B997}" type="datetime">
              <a:rPr b="0" lang="fi-FI" sz="1200" spc="-1" strike="noStrike">
                <a:solidFill>
                  <a:srgbClr val="5f5f5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i-FI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Jokaisella harjoittelukoululla on </a:t>
            </a:r>
            <a:r>
              <a:rPr b="1" lang="fi-FI" sz="2400" spc="-1" strike="noStrike">
                <a:solidFill>
                  <a:srgbClr val="5f5f5f"/>
                </a:solidFill>
                <a:latin typeface="Times New Roman"/>
              </a:rPr>
              <a:t>asiantuntijarekisteri</a:t>
            </a: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 ja lisäksi </a:t>
            </a:r>
            <a:r>
              <a:rPr b="1" lang="fi-FI" sz="2400" spc="-1" strike="noStrike">
                <a:solidFill>
                  <a:srgbClr val="5f5f5f"/>
                </a:solidFill>
                <a:latin typeface="Times New Roman"/>
              </a:rPr>
              <a:t>harjoittelukoulut ovat verkottuneet </a:t>
            </a: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tutkimus-, kokeilu- ja kehittämistoiminnassa ja voivat toteuttaa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yhteisiä tutkimus-, kokeilu- ja kehittämishankkeita,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eri alueiden asiantuntijoiden yhteistyötä,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hakea rahoitusta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toimia välittäjinä eri yliopistojen tutkimustoiminnassa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10" name="Päivämäärän paikkamerkki 3"/>
          <p:cNvSpPr/>
          <p:nvPr/>
        </p:nvSpPr>
        <p:spPr>
          <a:xfrm>
            <a:off x="3808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E4B9-AF4C-4D55-A760-FF655B3BCDCC}" type="datetime">
              <a:rPr b="0" lang="fi-FI" sz="1200" spc="-1" strike="noStrike">
                <a:solidFill>
                  <a:srgbClr val="5f5f5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952880" y="2282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ffffff"/>
                </a:solidFill>
                <a:latin typeface="Times New Roman"/>
              </a:rPr>
              <a:t>Tutkoke </a:t>
            </a:r>
            <a:br>
              <a:rPr sz="2400"/>
            </a:br>
            <a:r>
              <a:rPr b="1" lang="fi-FI" sz="2400" spc="-1" strike="noStrike">
                <a:solidFill>
                  <a:srgbClr val="ffffff"/>
                </a:solidFill>
                <a:latin typeface="Times New Roman"/>
              </a:rPr>
              <a:t>Turun normaalikouluss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Kukin harjoittelukoulu on perustanut </a:t>
            </a:r>
            <a:r>
              <a:rPr b="1" lang="fi-FI" sz="2400" spc="-1" strike="noStrike">
                <a:solidFill>
                  <a:srgbClr val="5f5f5f"/>
                </a:solidFill>
                <a:latin typeface="Times New Roman"/>
              </a:rPr>
              <a:t>tutkimuksen, kokeilun ja kehittämisen yhteistyöryhmän</a:t>
            </a: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, joka 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koordinoi ja kehittää sellaista yliopistossa, sen eri tiedekunnissa ja laitoksissa toteutuvaa tutkimus-, kokeilu- ja kehittämistyötä, jossa normaalikoulu voi olla mukana.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     </a:t>
            </a:r>
            <a:r>
              <a:rPr b="0" lang="fi-FI" sz="2400" spc="-1" strike="noStrike">
                <a:solidFill>
                  <a:srgbClr val="5f5f5f"/>
                </a:solidFill>
                <a:latin typeface="Times New Roman"/>
              </a:rPr>
              <a:t>Jokaisella harjoittelukoululla on </a:t>
            </a:r>
            <a:r>
              <a:rPr b="1" lang="fi-FI" sz="2400" spc="-1" strike="noStrike">
                <a:solidFill>
                  <a:srgbClr val="5f5f5f"/>
                </a:solidFill>
                <a:latin typeface="Times New Roman"/>
              </a:rPr>
              <a:t>tutkimus-, kokeilu ja kehittämistoiminnan strategia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Turun normaalikoulun Tutkoke-strategia 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13" name="Päivämäärän paikkamerkki 3"/>
          <p:cNvSpPr/>
          <p:nvPr/>
        </p:nvSpPr>
        <p:spPr>
          <a:xfrm>
            <a:off x="3808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2F97-5B9A-4D12-8BD7-F64CD33B69B9}" type="datetime">
              <a:rPr b="0" lang="fi-FI" sz="1200" spc="-1" strike="noStrike">
                <a:solidFill>
                  <a:srgbClr val="5f5f5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6:42:38Z</dcterms:created>
  <dc:creator>Tuomas Niinikoski</dc:creator>
  <dc:description/>
  <dc:language>en-US</dc:language>
  <cp:lastModifiedBy>Pirjo Mikkola</cp:lastModifiedBy>
  <dcterms:modified xsi:type="dcterms:W3CDTF">2011-02-08T10:05:26Z</dcterms:modified>
  <cp:revision>21</cp:revision>
  <dc:subject/>
  <dc:title>dwdwdwd</dc:title>
</cp:coreProperties>
</file>